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F3D-5A9C-4989-9833-1D9EB349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6F1-DFD5-4308-BEE3-486C2946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BB9-D27A-40B5-AF28-2D10505D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FED-9A99-485C-B624-EDF95376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497-7E5B-440B-8255-518A9AAD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837-115F-4442-AC88-99A37E3D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808-8AD6-4B7A-8171-410974E7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8C3-6379-4A58-A1A4-E5CC935B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727-5266-4741-82D2-747F3B53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CEF-7F8C-4861-9655-9DA0AE2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18E-F216-4451-BAAF-FDE17FC0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0C0-C50C-4652-B8A9-BE9852D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E4E8-74A7-464E-A56D-AE8F11830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omic Sans MS"/>
              </a:rPr>
              <a:t>INTRODUCING GOVERN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Comic Sans MS"/>
              </a:rPr>
              <a:t>TIPS Course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Comic Sans MS"/>
              </a:rPr>
              <a:t>Introduction to CGE Modeling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Comic Sans MS"/>
              </a:rPr>
              <a:t>Pretoria March 2007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Read course material Section 4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Check coding in CGE4 task.gms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 the introduction text carefully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: search for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*+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Group discussion of coding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Task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lete: search for 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*Complete!!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ote hints, clues and questions!!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Evaluate an increase in government exp by 10%: 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Various closures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Compare with increase in capital stock by 10%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Report results in half a page MSWord doc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ullet points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Discussion of results: collective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xercise CGE4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81080" y="457200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648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roducing Govern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Public sector important actor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acro policy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ocial policy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Begin by considering the government budget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Govt Savings = Revenue – Expenditure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Ignore government investment 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hus:  budget balance ≠ PSBR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781360"/>
            <a:ext cx="3124440" cy="990720"/>
          </a:xfrm>
          <a:prstGeom prst="wedgeRoundRectCallout">
            <a:avLst>
              <a:gd name="adj1" fmla="val -124134"/>
              <a:gd name="adj2" fmla="val 56569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Fiscal Bala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Budget Bala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Introducing Govern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93720" y="1681200"/>
          <a:ext cx="7683480" cy="35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681200"/>
                    <a:ext cx="768348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68360" y="4437000"/>
            <a:ext cx="4018320" cy="592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56360" y="4005360"/>
            <a:ext cx="1700280" cy="689760"/>
            <a:chOff x="6156360" y="4005360"/>
            <a:chExt cx="1700280" cy="689760"/>
          </a:xfrm>
        </p:grpSpPr>
        <p:sp>
          <p:nvSpPr>
            <p:cNvPr id="53" name=""/>
            <p:cNvSpPr/>
            <p:nvPr/>
          </p:nvSpPr>
          <p:spPr>
            <a:xfrm>
              <a:off x="6941160" y="4005360"/>
              <a:ext cx="915480" cy="3765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156360" y="4381560"/>
              <a:ext cx="1046160" cy="3135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867280" y="2133720"/>
            <a:ext cx="1512720" cy="2087280"/>
            <a:chOff x="5867280" y="2133720"/>
            <a:chExt cx="1512720" cy="2087280"/>
          </a:xfrm>
        </p:grpSpPr>
        <p:sp>
          <p:nvSpPr>
            <p:cNvPr id="56" name=""/>
            <p:cNvSpPr/>
            <p:nvPr/>
          </p:nvSpPr>
          <p:spPr>
            <a:xfrm>
              <a:off x="5867280" y="2133720"/>
              <a:ext cx="533520" cy="2087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6400440" y="3243240"/>
              <a:ext cx="979560" cy="6904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0827600">
            <a:off x="452160" y="5439960"/>
            <a:ext cx="3182760" cy="1270080"/>
          </a:xfrm>
          <a:prstGeom prst="wedgeRoundRectCallout">
            <a:avLst>
              <a:gd name="adj1" fmla="val -59680"/>
              <a:gd name="adj2" fmla="val 8611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venue (S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direct tax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irect taxes (only on h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ther revenues igno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45600">
            <a:off x="3059280" y="2204640"/>
            <a:ext cx="2592360" cy="1111320"/>
          </a:xfrm>
          <a:prstGeom prst="wedgeRoundRectCallout">
            <a:avLst>
              <a:gd name="adj1" fmla="val 58347"/>
              <a:gd name="adj2" fmla="val 559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ovt expendi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urchase of go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fers to h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27600">
            <a:off x="5144400" y="5513040"/>
            <a:ext cx="3171960" cy="936720"/>
          </a:xfrm>
          <a:prstGeom prst="wedgeRoundRectCallout">
            <a:avLst>
              <a:gd name="adj1" fmla="val -23074"/>
              <a:gd name="adj2" fmla="val 166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ARS payment to Treasu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direct tax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irect tax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lgebra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92080" y="1523880"/>
                <a:ext cx="51278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G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838080" y="3429000"/>
                <a:ext cx="2590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G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6120" y="2438280"/>
                <a:ext cx="37558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G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g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52280" y="152280"/>
            <a:ext cx="3353040" cy="1219320"/>
          </a:xfrm>
          <a:prstGeom prst="wedgeRoundRectCallout">
            <a:avLst>
              <a:gd name="adj1" fmla="val 29120"/>
              <a:gd name="adj2" fmla="val 77736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Tax levied on commodities valued at producer prices (previously P(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4800600"/>
            <a:ext cx="77724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New variables: SG , EG , YG, P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New parameters:  tq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 , t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h ,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qg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 , t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hg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Five new equations for SG, EG, YG &amp; P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otal now 39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46080" y="4051440"/>
                <a:ext cx="2787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788000" y="189000"/>
            <a:ext cx="3352680" cy="1218960"/>
          </a:xfrm>
          <a:prstGeom prst="wedgeRoundRectCallout">
            <a:avLst>
              <a:gd name="adj1" fmla="val -41759"/>
              <a:gd name="adj2" fmla="val 77736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Tax levied on household in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1197000"/>
            <a:ext cx="3743280" cy="1219320"/>
          </a:xfrm>
          <a:prstGeom prst="wedgeRoundRectCallout">
            <a:avLst>
              <a:gd name="adj1" fmla="val -54157"/>
              <a:gd name="adj2" fmla="val 71875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Quantity of government expenditure is fixed (still valued at consumer price P(c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1700280"/>
            <a:ext cx="3352680" cy="860400"/>
          </a:xfrm>
          <a:prstGeom prst="wedgeRoundRectCallout">
            <a:avLst>
              <a:gd name="adj1" fmla="val -54638"/>
              <a:gd name="adj2" fmla="val 80995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Nominal value of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573360"/>
            <a:ext cx="3352680" cy="428760"/>
          </a:xfrm>
          <a:prstGeom prst="wedgeRoundRectCallout">
            <a:avLst>
              <a:gd name="adj1" fmla="val -54638"/>
              <a:gd name="adj2" fmla="val 112222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Tax mark-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Macro Adjust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Policy makers often require: fixed budget deficit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Budget neutrality of policy action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In that case: SG fixed &amp; endogenise 1 parameter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Tax rates (tq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, t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Comic Sans MS"/>
              </a:rPr>
              <a:t>h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)?  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Govt expenditure (q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Comic Sans MS"/>
              </a:rPr>
              <a:t>g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)?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Transfers (tr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Comic Sans MS"/>
              </a:rPr>
              <a:t>hg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)?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Which parameter will become a variable?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Income tax: adjustment parameter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YTAXADJ*t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Comic Sans MS"/>
              </a:rPr>
              <a:t>h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1280" y="2131920"/>
            <a:ext cx="3384000" cy="2303280"/>
            <a:chOff x="611280" y="2131920"/>
            <a:chExt cx="3384000" cy="2303280"/>
          </a:xfrm>
        </p:grpSpPr>
        <p:sp>
          <p:nvSpPr>
            <p:cNvPr id="75" name=""/>
            <p:cNvSpPr/>
            <p:nvPr/>
          </p:nvSpPr>
          <p:spPr>
            <a:xfrm>
              <a:off x="611280" y="3923280"/>
              <a:ext cx="2665080" cy="511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000" y="2131920"/>
              <a:ext cx="1079280" cy="511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979280" y="2643480"/>
              <a:ext cx="1512360" cy="127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50920" y="4653000"/>
            <a:ext cx="87138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conomic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ax rates adjust to maintain budget neutralit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What could happen if cap stock increase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Pro or anti cyclic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1844640"/>
            <a:ext cx="3166920" cy="1943280"/>
          </a:xfrm>
          <a:prstGeom prst="wedgeRoundRectCallout">
            <a:avLst>
              <a:gd name="adj1" fmla="val -99273"/>
              <a:gd name="adj2" fmla="val 67319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If original tax rat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0% for high in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0% for low in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And YTAXADJ=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New tax rates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2% for high in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1% for low in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Other modifications required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New Set: Institutions: used fully at later stage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Courier New"/>
              </a:rPr>
              <a:t>/U-HHD, R-HHD, GOV/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ndirect taxes drive wedges between producer and ‘demander’ prices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i="1" lang="en-US" sz="2800" spc="-1" strike="noStrike" baseline="-25000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= (1 + tq</a:t>
            </a:r>
            <a:r>
              <a:rPr b="0" i="1" lang="en-US" sz="2800" spc="-1" strike="noStrike" baseline="-25000">
                <a:solidFill>
                  <a:srgbClr val="ffff00"/>
                </a:solidFill>
                <a:latin typeface="Comic Sans MS"/>
              </a:rPr>
              <a:t>c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) PX</a:t>
            </a:r>
            <a:r>
              <a:rPr b="0" i="1" lang="en-US" sz="2800" spc="-1" strike="noStrike" baseline="-25000">
                <a:solidFill>
                  <a:srgbClr val="ffff00"/>
                </a:solidFill>
                <a:latin typeface="Comic Sans MS"/>
              </a:rPr>
              <a:t>c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Household demand for commodities from after-tax income but after transfers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QH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Comic Sans MS"/>
              </a:rPr>
              <a:t>ch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=</a:t>
            </a:r>
            <a:r>
              <a:rPr b="0" i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Comic Sans MS"/>
              </a:rPr>
              <a:t>ch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*(1 - mps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Comic Sans MS"/>
              </a:rPr>
              <a:t>h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)*(1 - ty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Comic Sans MS"/>
              </a:rPr>
              <a:t>h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)*YH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Comic Sans MS"/>
              </a:rPr>
              <a:t>h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/P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Comic Sans MS"/>
              </a:rPr>
              <a:t>c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Other modifications required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avings investment balance must include government savings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Commodity market balances must include government demands</a:t>
            </a: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82800" y="3225960"/>
          <a:ext cx="603540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225960"/>
                    <a:ext cx="6035400" cy="560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523880" y="5299200"/>
                <a:ext cx="4800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N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N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g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mulation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ow, swap SG and YTAXADJ: explore fiscal policy options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Same principals as before with S=I :  IADJ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fix SG &amp; allow YTAXADJ (tax rate) to adjust: balanced budget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fix YTAXADJ (tax rate)  &amp; allow SG to adjust; flexible budget deficit</a:t>
            </a:r>
            <a:endParaRPr b="0" i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imulation: Combine with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Saving = Investment adjustment options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Labour market adjustment options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10% increase in govt expenditure for adjustment options: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S=I driven/unemployment/balanced budget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S=I driven/unemployment/flexible budget deficit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lso: 10% increase in cap stock for adjustment options:</a:t>
            </a:r>
            <a:endParaRPr b="0" i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S=I driven/full employment/balanced budget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I=S driven/unemployment/balanced budget</a:t>
            </a:r>
            <a:endParaRPr b="0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mulations: Fiscal Adjust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268280"/>
            <a:ext cx="7775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F(GOVCLOS(SIM) EQ 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.FX = GS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TAXADJ.LO = -INF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TAXADJ.UP = +INF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TAXADJ.L = YTAXADJ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F(GOVCLOS(SIM) EQ 2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TAXADJ.FX = YTAXADJ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.LO = -INF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.UP = +INF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.L = GS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22:49:50Z</dcterms:created>
  <dc:creator>Matthew</dc:creator>
  <dc:description/>
  <dc:language>en-US</dc:language>
  <cp:lastModifiedBy>User</cp:lastModifiedBy>
  <dcterms:modified xsi:type="dcterms:W3CDTF">2007-03-13T15:46:05Z</dcterms:modified>
  <cp:revision>63</cp:revision>
  <dc:subject/>
  <dc:title>Introducing Government</dc:title>
</cp:coreProperties>
</file>